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3BBD-F0E0-475C-A660-F0B6CD97F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C927-193C-446E-92B8-0CC8B7701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3B59-7580-4C65-B5A0-7EBA000F3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D5BA-A79A-4584-809C-15935795C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A1AE-D865-48E6-9014-E28653406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BDFC-33DF-4D8B-8DFC-B767B175B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AA3B-6A7A-4646-B78F-5D9706F22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7869-FE59-4670-BFA9-6B8B51AB2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FADB-90AE-47CF-91D1-2B2D8F4EB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0671-EFEF-4665-AE23-CB91041E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ED64-1171-4112-B004-82B311BF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A9AA-C77F-4855-8DA5-E042D425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0740E-3F83-4E31-B496-E13D463E27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Verdana"/>
              </a:rPr>
              <a:t>Loss Reserve</a:t>
            </a:r>
            <a:br>
              <a:rPr sz="3600"/>
            </a:br>
            <a:r>
              <a:rPr b="1" lang="en-AU" sz="3600" spc="-1" strike="noStrike">
                <a:solidFill>
                  <a:srgbClr val="000000"/>
                </a:solidFill>
                <a:latin typeface="Verdana"/>
              </a:rPr>
              <a:t>Upgrades - A Pervasive Myth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505320"/>
            <a:ext cx="670536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debunk a critical loss reserving myth involving loss reserve upgrades that is pervasive in the insurance industry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41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Visit the abovementioned URL for a simple arithmetic proof of the above mentioned fa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Reading the following related paper may also prove usefu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i="1" lang="en-AU" sz="2400" spc="-1" strike="noStrike">
                <a:solidFill>
                  <a:srgbClr val="000000"/>
                </a:solidFill>
                <a:latin typeface="Verdana"/>
              </a:rPr>
              <a:t>Will Your Next Reserve Increase Be Your Last”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by Prof. Ben Zehnwirth, Dr Julie Sims and Mark Shapland, published in 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CONTINGENCIES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, the publication by the American Academy of Actuaries in the Jan/Feb 2004 issue on Page 40-44 (PDF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Big Myth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12408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gular reserve upgrades means that the company is (and has been) under-reserved and a significant increase 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“a big hit”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 in reserves means no subsequent reserve increases will be requi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Reality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162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understanding of the reserving process contradicts a very simple arithmetic truism. Repeat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reserve upgrades does not mean under-reserving. Indeed, the converse may be true. I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reserves are not increased annually then the company is likely to be under-reserved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920" y="260280"/>
            <a:ext cx="88390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serveincreases%20-%20part%202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2517480"/>
          </a:xfrm>
          <a:prstGeom prst="rect">
            <a:avLst/>
          </a:prstGeom>
          <a:ln w="0">
            <a:noFill/>
          </a:ln>
        </p:spPr>
      </p:pic>
      <p:pic>
        <p:nvPicPr>
          <p:cNvPr id="49" name="Reserveincreases%20-%20part%203" descr=""/>
          <p:cNvPicPr/>
          <p:nvPr/>
        </p:nvPicPr>
        <p:blipFill>
          <a:blip r:embed="rId2"/>
          <a:stretch/>
        </p:blipFill>
        <p:spPr>
          <a:xfrm>
            <a:off x="0" y="2971800"/>
            <a:ext cx="914400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Reserveincreases%20-%20part%204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68680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does this mean in terms of loss reserving each year? The following are simple arithmetic facts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Each year the company needs to increase its total reserve by </a:t>
            </a:r>
            <a:r>
              <a:rPr b="1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at least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 5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Each year the company needs to increase its premium (price) by </a:t>
            </a:r>
            <a:r>
              <a:rPr b="1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at least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 5%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The ultimates for prior accident years will remain consistent with each increase in </a:t>
            </a:r>
            <a:r>
              <a:rPr b="1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 reserves.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Ultimates increase by </a:t>
            </a:r>
            <a:r>
              <a:rPr b="1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at least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 5% from one accident year to the n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The principal reason for these facts is that calendar year inflation projects both onto the accident years and development years- it also impacts all prior accident years.</a:t>
            </a:r>
            <a:br>
              <a:rPr sz="2400"/>
            </a:b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The increases in </a:t>
            </a:r>
            <a:r>
              <a:rPr b="0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reserves each year should not be regarded as an 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upgrade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. If my costs in running my business increase by 5% each year I should at least increase the price of my product by 5% to stay even. I do not regard this increase as an 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upgrade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. On the contrary, if </a:t>
            </a:r>
            <a:r>
              <a:rPr b="0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reserves are not increased by at least 5% each year the company will be under reserved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That the 5% increase applies to the premium and ultimates from year to year is obvious. That it applies to the </a:t>
            </a:r>
            <a:r>
              <a:rPr b="0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reserves (and still maintaining consistent prior accident year ultimates) may not be so obvious, to some.</a:t>
            </a:r>
            <a:br>
              <a:rPr sz="2400"/>
            </a:b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I have mode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ed long tail liabilities from all over the planet. I have measured total inflation (economic and social) in excess of 15% per year on average for 20 years for some portfolios. So we now know why many companies have failed!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3T03:11:05Z</dcterms:created>
  <dc:creator>Nikolai Volodin</dc:creator>
  <dc:description/>
  <dc:language>en-US</dc:language>
  <cp:lastModifiedBy>BenZ</cp:lastModifiedBy>
  <dcterms:modified xsi:type="dcterms:W3CDTF">2005-09-21T20:05:45Z</dcterms:modified>
  <cp:revision>3</cp:revision>
  <dc:subject/>
  <dc:title>Loss Reseverve Upgrages - A Pervasive Myth </dc:title>
</cp:coreProperties>
</file>